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C36F31-DA9A-48DA-B5BC-717885E28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CACBCA-5037-4B2C-A76A-48689C55B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54ECEB-19B8-4F5E-A33F-14B870234A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0AB847-B228-487B-8426-0AB12A752A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AF48C-5CE8-4897-BDFC-4DE976B4A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64726-876E-4918-B24C-316E3C087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24A6F-FB31-4164-A8D4-50749AD0B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15F8A-391F-4475-90D4-E23464970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5366F-9464-4F40-9A5A-060B7301D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AA15F-A03A-473F-AD76-EAEB85CCA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5E6FB-BBBE-47C3-BE5A-572D9BDB4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94BEC9-2976-4D9A-806D-BE93D3879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708CD-6E35-43FE-A1DA-9E3B1352D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25B40-FFAD-45BC-9530-285972C94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9DA68-DB9E-490E-BD23-A0360CC10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D71C3-46C1-406A-BBF8-26E15BA0B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9344A-7ED3-47FA-A840-F90999B93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86F03B-CDDD-4B3F-A285-BB6B9E7F1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E9CBE5-5A0F-4E28-BB16-88CECA82F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E5F96F-0EFB-4586-AD96-A1456B424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2FAC74-B622-473E-A0E4-F69A8160E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A6477-C918-416A-BC76-BB0454872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BEA781-8466-4E2A-8F19-E3A25E2C9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242D93-2E18-4738-A569-14D530A7F7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AC6F-ADB7-432B-ACCC-861FA833FD01}"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5744-10E3-4D33-B443-69C7EF82EE62}"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年度最活跃的十大科技人物</a:t>
            </a:r>
            <a:endParaRPr b="0" lang="en-US" sz="4400" spc="-1" strike="noStrike">
              <a:solidFill>
                <a:srgbClr val="000000"/>
              </a:solidFill>
              <a:latin typeface="Arial"/>
            </a:endParaRPr>
          </a:p>
        </p:txBody>
      </p:sp>
      <p:sp>
        <p:nvSpPr>
          <p:cNvPr id="106" name="PlaceHolder 2"/>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8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仿宋_GB2312"/>
              </a:rPr>
              <a:t>科技人物排行旨在反应一年中科技行业人物的活跃度，作为今年科技行业的热门人物，媒体关注的焦点，他们的举动也在一定程度上影响着各自领域或公司这一年的发展和走向。</a:t>
            </a:r>
            <a:endParaRPr b="0" lang="en-US" sz="3300" spc="-1" strike="noStrike">
              <a:solidFill>
                <a:srgbClr val="000000"/>
              </a:solidFill>
              <a:latin typeface="Arial"/>
            </a:endParaRPr>
          </a:p>
        </p:txBody>
      </p:sp>
      <p:pic>
        <p:nvPicPr>
          <p:cNvPr id="107" name="" descr=""/>
          <p:cNvPicPr/>
          <p:nvPr/>
        </p:nvPicPr>
        <p:blipFill>
          <a:blip r:embed="rId1"/>
          <a:stretch/>
        </p:blipFill>
        <p:spPr>
          <a:xfrm>
            <a:off x="914400" y="2373480"/>
            <a:ext cx="3429000" cy="30096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685800" y="1523880"/>
            <a:ext cx="3809880" cy="2971800"/>
          </a:xfrm>
          <a:prstGeom prst="rect">
            <a:avLst/>
          </a:prstGeom>
          <a:ln w="0">
            <a:noFill/>
          </a:ln>
        </p:spPr>
      </p:pic>
      <p:pic>
        <p:nvPicPr>
          <p:cNvPr id="111" name="" descr=""/>
          <p:cNvPicPr/>
          <p:nvPr/>
        </p:nvPicPr>
        <p:blipFill>
          <a:blip r:embed="rId2"/>
          <a:stretch/>
        </p:blipFill>
        <p:spPr>
          <a:xfrm>
            <a:off x="4495680" y="3060720"/>
            <a:ext cx="4191120" cy="15127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5-11-03T06:23:32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