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A93BF-C5FB-45A1-B079-A94E5B7BE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56456-43E6-4954-8BC3-3393AFB52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0ED2B-E77C-43CD-84E8-A3C74268F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130DA-A5DD-48A5-B2B8-58AE39060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782F1-2BAD-4295-B3DB-CA80D7DB6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5F347-0E7D-47D8-BE33-2317B3434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FBBC8-525C-4CBE-8F67-49C69B0CC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93CE1-CC9C-477E-9594-ABA77387E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553F7-09D9-4C94-84B3-1EF70806D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E680D-0716-4880-B07F-7D215BE34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62893-3655-480D-82A2-4001C2B8D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DC785-7624-41DD-A09A-F57139D50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2DC2-A6BF-4DDB-BC06-F63AB26B70E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年度最活跃的十大科技人物</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技人物排行旨在反应一年中科技行业人物的活跃度，作为今年科技行业的热门人物，媒体关注的焦点，他们的举动也在一定程度上影响着各自领域或公司这一年的发展和走向。</a:t>
            </a:r>
            <a:endParaRPr b="0" lang="en-US" sz="2800" spc="-1" strike="noStrike">
              <a:solidFill>
                <a:srgbClr val="000000"/>
              </a:solidFill>
              <a:latin typeface="Arial"/>
            </a:endParaRPr>
          </a:p>
        </p:txBody>
      </p:sp>
      <p:sp>
        <p:nvSpPr>
          <p:cNvPr id="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523880" y="4191120"/>
            <a:ext cx="5639040" cy="133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295280" y="1523880"/>
            <a:ext cx="6096240" cy="164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5-11-03T06:12:4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