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0F3-2F7A-4184-AAE3-89F31647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352-8242-402E-844A-3BEB41E8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DB2-2F91-4CCA-B3EE-622ED83B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266-A2B2-4732-87E1-DEC42221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AD9-FE42-44F8-9463-759DD3B8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B82-AD17-47C8-8564-5EF46F5E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979-73E5-4455-9FA1-40394FA5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D07-8F3D-4D59-9DE1-ED60BCA9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885-B0FF-4BE0-805A-072F5344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55B-CC85-4EA6-A70B-740590AE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B11-CDAA-4403-A57F-55C994C0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B26-92EE-4E8E-BB5F-0163D4D7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EB61-F50B-4F85-A9BF-FF87D4BCC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计算机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omput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纪重大科技发明之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计算机的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处理速度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计算精度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存储容量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靠性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工作全自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适用范围广、通用性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计算机的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科学计算（数值计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信息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程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计算机辅助设计和辅助制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代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家庭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9T06:40:29Z</dcterms:created>
  <dc:creator>Administrator</dc:creator>
  <dc:description/>
  <dc:language>en-US</dc:language>
  <cp:lastModifiedBy/>
  <dcterms:modified xsi:type="dcterms:W3CDTF">2015-10-09T06:57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