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920-AB81-4995-B731-5F7F8665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530-CD0E-4C59-9928-0203F6C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CB6-C508-42EA-9197-BB01E1C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CF2-CAFB-4CFA-B9AF-631A14EC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358-CE3B-4E96-87DF-AB2FB94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38E-F0C4-402E-95E6-507ABD0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C53-1CB9-469E-8275-A999CE5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858-A748-4881-A58E-49BFA98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317-CBE7-4AB2-8057-CEF289BA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834-944D-4313-A0F2-360E219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686-BA15-4FA4-953A-53D6B11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E98-C959-4832-B0A7-CAACF16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E68-3B4D-4FF2-848B-361B43E41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理速度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精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存储容量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靠性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全自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用范围广、通用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学计算（数值计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息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机辅助设计和辅助制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庭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机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6:40:29Z</dcterms:created>
  <dc:creator>Administrator</dc:creator>
  <dc:description/>
  <dc:language>en-US</dc:language>
  <cp:lastModifiedBy/>
  <dcterms:modified xsi:type="dcterms:W3CDTF">2015-10-09T06:49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