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D94-178F-474C-B07F-BD39BBE0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6352-AF7E-4BD6-B3C3-854FB345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FE1-8F45-4A99-9C1A-3A6D198B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67E-FEED-4DB6-A525-5DA182E8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A0C9-E5D4-4680-A8D5-585F8B8E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1B2D-2848-4272-A45C-60A4EC0D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D5E2-906F-4A9D-8F49-1A95E681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D7C3-3109-48DC-A1E9-276216DC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EAFF-52EA-4EAC-ADCA-E577493B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2713-B6B9-4000-8D9F-7386AFA3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AEDC-DEA3-425C-85BA-66315D31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D0F-E4CB-41FB-A814-F095CA92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6ABC-226D-4D2F-A8D2-C56A5F96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DCB8-1D1C-45C5-B242-D70D8E06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A794-A39E-4EF0-BCB1-7BACDAF4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4F1C-F197-4CAE-9C11-F31280FD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F879-7DD4-48BF-9F5B-AD8D5CBD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9DDB-9571-46C2-BE1D-7CAB2380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612-0FB5-435A-ABD9-B379CAAF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F08F-3F09-450A-9C41-AB1BD9A1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BCD-5CBA-4499-8BED-504BA570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FA1F-3D98-4B93-83E5-4EACD021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164-0929-4831-A753-61A881CC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F1F-E9C8-4075-9A8A-8F35C70C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7393-8860-4499-A5E8-722D657A161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4971-9471-4BD6-8410-8E23F3C7D78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Times New Roman"/>
                <a:ea typeface="黑体"/>
              </a:rPr>
              <a:t>第一章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计算机基础知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ec94"/>
                </a:solidFill>
                <a:latin typeface="Times New Roman"/>
                <a:ea typeface="黑体"/>
              </a:rPr>
              <a:t>一、主要目录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(</a:t>
            </a:r>
            <a:r>
              <a:rPr b="0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</a:t>
            </a:r>
            <a:r>
              <a:rPr b="0" lang="en-US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)</a:t>
            </a:r>
            <a:r>
              <a:rPr b="0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计算机发展简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(</a:t>
            </a:r>
            <a:r>
              <a:rPr b="0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二</a:t>
            </a:r>
            <a:r>
              <a:rPr b="0" lang="en-US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)</a:t>
            </a:r>
            <a:r>
              <a:rPr b="0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计算机的特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(</a:t>
            </a:r>
            <a:r>
              <a:rPr b="0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三</a:t>
            </a:r>
            <a:r>
              <a:rPr b="0" lang="en-US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)</a:t>
            </a:r>
            <a:r>
              <a:rPr b="0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计算机的应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(</a:t>
            </a:r>
            <a:r>
              <a:rPr b="0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四</a:t>
            </a:r>
            <a:r>
              <a:rPr b="0" lang="en-US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)</a:t>
            </a:r>
            <a:r>
              <a:rPr b="0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计算机的分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01:08:40Z</dcterms:created>
  <dc:creator>Administrator</dc:creator>
  <dc:description/>
  <cp:keywords/>
  <dc:language>en-US</dc:language>
  <cp:lastModifiedBy>微软用户</cp:lastModifiedBy>
  <dcterms:modified xsi:type="dcterms:W3CDTF">2015-10-14T09:07:10Z</dcterms:modified>
  <cp:revision>2</cp:revision>
  <dc:subject/>
  <dc:title>第一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