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7ED-100F-4AB2-9057-FF2BDCAA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725-F8A6-4442-958C-E5575AC7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1D4-45BA-4A6A-BAE4-228E440EE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D2EC-D212-40FE-8D93-C0FFF0ED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121-2D0B-4280-A95C-19792CFD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0316-8CB9-4B63-89A0-B764D56B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893-6521-4F95-822F-C8D1BE37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10B2-474B-4D3D-B98A-92018314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36BC-4EBE-4E66-9637-1C970E98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73A-8725-4480-B753-90786AA2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B3AB-BD90-4FBB-A567-5A0C9FFF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24E-F146-4354-A370-6D6DA849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6667-4652-4445-B107-2C9139FA6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NetWar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楷体_GB2312"/>
              </a:rPr>
              <a:t>大大减少了对庞大的客户端软件的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要新增加的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全新的管理架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件访问和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支持多处理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络打印大大简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0T02:57:21Z</dcterms:created>
  <dc:creator>Administrator</dc:creator>
  <dc:description/>
  <dc:language>en-US</dc:language>
  <cp:lastModifiedBy/>
  <dcterms:modified xsi:type="dcterms:W3CDTF">2015-10-10T03:48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