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235-F304-4208-B1A2-1BF62107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C5A-49E3-45B2-B206-7C6EDC00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9A9-8B9F-4A89-A051-ADA43F87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865-5BCE-47E8-84AA-0FABAF6C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66D-127A-4F8C-9742-C616343A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D5D-2CE2-44A7-9E97-FD9C545E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40B-C25C-4C9C-96C0-F50C08F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03C-5426-473D-B823-60CFDA07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3F0-E40C-469E-8DE0-AD45B424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0C5-5325-46C0-9169-A2C102EE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E81-3A0F-47D4-8959-0F072FC2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A48-CB05-455D-9292-D5A5047D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29B-E25D-43D9-9D0C-041EB5021B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国计算机等级考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新考试大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S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PS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SUAL FOX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新考试大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级网络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级信息管理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级数据库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05:42:55Z</dcterms:created>
  <dc:creator>Administrator</dc:creator>
  <dc:description/>
  <cp:keywords/>
  <dc:language>en-US</dc:language>
  <cp:lastModifiedBy>微软用户</cp:lastModifiedBy>
  <dcterms:modified xsi:type="dcterms:W3CDTF">2015-10-14T09:09:22Z</dcterms:modified>
  <cp:revision>1</cp:revision>
  <dc:subject/>
  <dc:title>全国计算机等级考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