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C00B-C438-42F7-9AAD-79EBE1E6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7527-AD34-4210-B4DC-982E1A4D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6666-C6AA-4AC0-805C-48A6A4F26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0739-C03C-44FF-85CA-6C65ABFFE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44C2-04BE-4563-8943-727F81B0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8E39-097D-4688-B6BB-6ECF4D0C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FBE5-B9A9-4BD0-A5FB-D8BC35CB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6A7A-2C25-4F7E-9B61-B2E60C24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32DB-8E1C-41EF-A133-8402B132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0189-8E29-46B2-87A6-03FA1E7B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4D70-1F82-4EA5-BE7D-EE167652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FD0D-F0EC-4DBB-9C3D-FDCA53EF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1612-06A6-41BE-87D4-3D786EB8E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全国计算机等级考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考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最新考试大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级网络技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级信息管理技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级数据库技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技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最新考试大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S Of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PS Of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VISUAL BA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VISUAL FOXP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0T05:42:55Z</dcterms:created>
  <dc:creator>Administrator</dc:creator>
  <dc:description/>
  <dc:language>en-US</dc:language>
  <cp:lastModifiedBy/>
  <dcterms:modified xsi:type="dcterms:W3CDTF">2015-10-10T05:49:1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