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C38-5063-4DA6-9768-84895841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C8B-C979-48F7-8A39-E63E1A8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FDD-1F73-4B0B-B7D8-E8327930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4C5-F58E-4E81-9E20-261AE7EE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D81-34AB-437E-A6B4-C385993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690-3139-4A32-8D32-451F3F3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6A9-0816-422F-BC92-15DC618D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478-0620-413B-ABD9-1248E1E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282-99D4-490C-933A-22D5A44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D51-F8DF-4E21-ACB3-A770D7D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F50-1B28-4CA5-BBED-5C2AD99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DB6-8454-4303-A926-4B22E1A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089-FBCC-4A1E-A5A8-4C7FBF150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元降息，人民币降不降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联储今年第十一次降息，下调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7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以来的最低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降息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悉，央行行长戴相龙日前曾明确表示人民币不会降息。他说，当前，人民币利率水平与经济发展状况是基本适应的，因此，人民银行没有提出降低人民币利率的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5T07:57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