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1E6-75B5-4633-9C63-DC7B7BCC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525-A59E-4B09-86E1-6384D22A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B6D-425F-4B19-BCFA-E212FA67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DD9-FDBC-4526-90AB-BFA6811D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56F-A55D-41E3-8CEE-7356E768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6CD-0F66-4098-A31F-BA0DB8B6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C0E-3E82-4956-86B9-03AE96A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592-8C7D-4A60-8BAB-F74B4671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476-D339-4043-BD56-84AE3C9E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060-5061-41B5-9191-04F5C3C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FD1-06D4-46C0-B986-389FB6C6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717-F27F-4EC2-A4B6-7815E90D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16A3-6760-4A56-9A03-6FAE9E769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德雷斯纳预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情报市场将在今后的几年里出现一个——旋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析型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司指出：为交易服务的强大信息系统已经发展成为所有主要产业的标准，它有效地为全球诸公司展开竞争准备好了场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该公司认为：要想在当今获得行业主导地位，就必须建立分析型系统，即那种能为制定关键战略决策提供信息的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19T09:08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