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7EA-827F-459A-9391-C713FDC2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9C5-EDB9-41B4-A522-7CFF2D8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E18-4B15-4FF7-9AEE-001E6D45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BCA-A302-4933-9D57-AC49E8D4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54D-ABE5-4C0D-BA87-DAFAADC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ACF-E6E1-45ED-802B-60F61FA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5AB-8112-426C-92A2-01E9006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B20-9CF5-48E4-B73B-259C157D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133-9230-491A-B1B7-F1A6448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3A6-CBFC-4E3D-9259-13007E5A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FB4-BE4F-4247-8C65-128DFA1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B43-FB68-40D4-A220-757632B2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212-8485-47FF-ACB7-085FC3175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析型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指出：为交易服务的强大信息系统已经发展成为所有主要产业的标准，它有效地为全球诸公司展开竞争准备好了场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该公司认为：要想在当今获得行业主导地位，就必须建立分析型系统，即那种能为制定关键战略决策提供信息的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德雷斯纳预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情报市场将在今后的几年里出现一个——旋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9T09:06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