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B4A-B281-4953-9744-8638BD6A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FDF-F9F5-4A4C-B8E2-50063DAF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C7E-9075-4A82-814E-24C4FF43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4A4-C6CC-40B0-9530-5C008794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3B82-5ED6-4189-930C-563DA950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70A4-7889-43B1-B64C-B4567A87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CBF4-CBB0-4623-8BA7-6915DE21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44BD-3C06-48A1-AFF2-C969D08E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97A8-F386-4AD1-B78C-9A275F14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C9D1-84D2-4975-BC9C-4E9C3B11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FB2A-8FC3-4D30-9E70-E98EA7BE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40A-8808-44CE-9B2D-73C0AACD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7AC1-13DE-4A64-8753-0620C04F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F90C-9C4F-42E8-8C81-86E2D728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D92B-543C-44F9-B1C5-D6DF8A0D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A046-5F0D-4D68-B353-FD8A742F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D6C4-AFAC-4A32-B819-EE8698B7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A449-DBFE-474A-A9D7-622D13D6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1C60-BC95-48C5-82E2-3EA87E36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4EE-CF6E-4C4E-8782-A663D074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6CE-2D8C-457C-8C2E-8DE6118D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A8C-4578-4D9B-A270-C9292DD9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B7B1-6E1B-4935-AFDE-CD2D6662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78D-4127-497B-ABFD-15315F17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273C-DA42-449D-A30A-EFCD1FE24CF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0BFD-28EB-4401-AA3F-DBAB575CFC9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3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世纪是高度发达的数字时代，数字时代的创业共同特征，那就是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S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mar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n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629040" y="122400"/>
            <a:ext cx="2057400" cy="60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mart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2400"/>
            <a:ext cx="6019920" cy="60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mart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（智慧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精通科技，而且具有丰富有想像力。在创造前所未知的事物时，最重要的是具有何等程度的想像力，以及加以实现的知识和技术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（速度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因特网是每秒钟都在不断产生新技术或事业的场所。要在其中作战，必须具备断然展开事业的行动力、对于业界环境的变化能够弹性因应的适应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ense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（敏锐度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要推销尚未成形的梦想时，绝不能缺少对商业的敏锐度。坚实的背景和经历有助于掌握先机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未来的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3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0-20T00:53:0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