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046-6D45-47D4-9356-EC5BCCDF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D0A-DB50-4F41-83B4-66354E96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A967-EE8D-4FF7-A041-BC1CAFC9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7A0-55FF-4280-BABF-0621759E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B92-C29C-4530-82C5-77A632D4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421C-7C60-40BB-BD55-488ABF47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8BC8-8B91-41D6-8BDB-67C9739E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1F1-F395-4F76-8A45-41F0DE78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402-CC9B-4758-82AD-00BD4043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A9C-E479-4F45-B774-C8D92A73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23C-A828-4248-BFE3-96B22259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941-6980-46A2-8CB8-00DB55B3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9324-A38E-46DD-AF1B-C45D707764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世纪是高度发达的数字时代，数字时代的创业共同特征，那就是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S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mar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en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mar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智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精通科技，而且具有丰富有想像力。在创造前所未知的事物时，最重要的是具有何等程度的想像力，以及加以实现的知识和技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速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因特网是每秒钟都在不断产生新技术或事业的场所。要在其中作战，必须具备断然展开事业的行动力、对于业界环境的变化能够弹性因应的适应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ns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敏锐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推销尚未成形的梦想时，绝不能缺少对商业的敏锐度。坚实的背景和经历有助于掌握先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0-20T00:48:5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