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BCF9-D84D-420D-9DC4-FDFCE4B48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B5BF-6D8F-45A4-AF9E-EE8A300FF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2C17-C084-4214-AF09-8B58B6524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8A49-E5BA-4B9A-829D-1F8B92D6E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9462D-E568-4A4C-9FB0-EF4346E0E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B5E58-110D-4754-85EB-E97D1E21C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781C0-7B7D-49AA-923F-DFAADA67F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A188C-2CAD-4912-B2E8-0FAD6139A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43BE4-0EBC-4BD6-8687-C222CD469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E7778-B848-4EF6-AF21-30E1E7F3B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C00D2-1CAD-4468-B8C1-85A2C7867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A10D-6ACA-4D58-AC59-8A935327C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F5B91-9F46-4143-BA4F-A11A57F73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23EA3-BF1B-4F76-8D73-795DB8BF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154E1-4520-4623-88B3-B4EB5630A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3FB82-29DB-4EAA-B139-46364AB1E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D48B1-72A6-45FF-99E8-86B1E1E36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FD05-1D3A-4552-9845-F64D0D67B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5A6D-0B52-4CBE-9E34-39A123C64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C620-7986-4E2C-80CD-B78057A49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6F32-3484-4F5D-87F8-7586CA233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FC81-7240-4BE0-81B6-65C5BB88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BC37-A421-4DD1-99F2-B6C057E76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6167-A882-4F01-BC77-24FA576C2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87F6E-2405-4FFE-A7CC-78044D22970E}" type="slidenum">
              <a:rPr b="0" lang="zh-CN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2B2F2-9C14-4F5E-85CC-FE8D179FA86A}" type="slidenum">
              <a:rPr b="0" lang="zh-CN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101"/>
                </a:solidFill>
                <a:latin typeface="Arial"/>
              </a:rPr>
              <a:t>统一大业</a:t>
            </a: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祖国统一大业取得新进展。我国政府恢复对澳门行使主权。坚持贯彻“一国两制”方针，严格执行香港特别行政区基本法和澳门特别行政区基本法，香港和澳门社会经济稳定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祖国统一万岁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祖国统一大业取得新进展。我国政府恢复对澳门行使主权。坚持贯彻“一国两制”方针，严格执行香港特别行政区基本法和澳门特别行政区基本法，香港和澳门社会经济稳定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495680" y="1752480"/>
            <a:ext cx="4038840" cy="38512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5-10-19T08:18:5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