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D89-9CDD-46FC-8DF6-CEC5CE35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ACF-C142-40EC-BA59-F81288DF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0B6-2A14-45DC-92AD-316CA384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0A6-B232-447B-825D-86CCE638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390-A4BC-4F76-BC4B-1F59AA6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A1B-2410-47C5-9565-40EACC16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DD5-6BA4-4BA5-B660-C0A3F075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C44-116D-4C73-83E3-E414CF17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018-6F04-4C1F-8935-4C2BF4D5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A23-B59C-4603-A389-418F703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ED0-840E-4ABF-BDF5-2511B0D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955-7C11-432C-82C2-7BEC2FDF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2AA1-C494-432C-8E45-1037754819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祖国统一大业取得新进展。我国政府恢复对澳门行使主权。坚持贯彻“一国两制”方针，严格执行香港特别行政区基本法和澳门特别行政区基本法，香港和澳门社会经济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祖国统一万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祖国统一大业取得新进展。我国政府恢复对澳门行使主权。坚持贯彻“一国两制”方针，严格执行香港特别行政区基本法和澳门特别行政区基本法，香港和澳门社会经济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0384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19T08:11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