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3A56-CEDD-44AC-8C05-4C320E9E7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1AFF-F3D0-4BDD-9975-507187A3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93D9-1584-4407-B723-7EDE95F65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6B98-D5BC-4C00-85C5-133812C77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04DF-9251-4C1D-8EB3-10FF74580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3D11-189E-437E-9B36-72BC42D6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B53D-A194-40A9-BBE5-713C5074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DD60-ED55-4525-9F8A-098C1D9C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FABA-540D-44D3-88C7-983FAA3D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DFA1-18DA-4F26-B2AA-CFC686DC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7861-6E2B-435B-8BE9-F2C569B5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B657-0BDC-4410-AA30-A39F0E86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6415-4AC6-47AC-A819-A5B9C7D1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BEA7-06F4-48B0-A81E-D58E43E2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E68B-BB34-44D1-B420-9579B70F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BB4C-8EC8-49BF-AE29-ABB603C7C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6627-9C8C-4440-AACD-219180F65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39B1-4452-468E-82B8-79C0D1AB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1A67-64CC-489B-8FB0-07B553E1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FB4A-18D1-4684-B49D-5CB7FC3E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D03F-F253-41AD-BF0C-3A12F5F2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A477-FC9C-4E9D-B38C-5F83DFF7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5FF5-5788-47CE-A372-A5B85343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2069-050C-49E4-83A6-8361ABAC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4342-B6C9-48A3-8041-A6E4983984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CCF6-3C5C-4FDB-8A0A-65637C55D8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300" spc="-1" strike="noStrike">
                <a:solidFill>
                  <a:srgbClr val="fa0000"/>
                </a:solidFill>
                <a:latin typeface="黑体"/>
                <a:ea typeface="黑体"/>
              </a:rPr>
              <a:t>发现号航天飞机发射推迟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燃料传感器存在故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宋体"/>
              </a:rPr>
              <a:t>发现号航天飞机发射推迟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996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北京时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01:39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美国东部时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3:39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美国宇航局宣布推迟发现号航天飞机发射，原因是发现航天飞机的燃料传感器存在故障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31956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4767120" y="1962000"/>
            <a:ext cx="3996000" cy="37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4T07:22:30Z</dcterms:created>
  <dc:creator>liu</dc:creator>
  <dc:description/>
  <dc:language>en-US</dc:language>
  <cp:lastModifiedBy>c</cp:lastModifiedBy>
  <dcterms:modified xsi:type="dcterms:W3CDTF">2009-09-26T06:09:36Z</dcterms:modified>
  <cp:revision>6</cp:revision>
  <dc:subject/>
  <dc:title>PowerPoint 演示文稿</dc:title>
</cp:coreProperties>
</file>