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51C-0919-436C-8A31-88FCAA8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53C-EDDF-49FB-B2F9-CCDD92E7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2A1-21B4-44F1-91C7-CA88DE6F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12E-CCB3-47DE-B551-78F38D62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4B1-1A15-4CD6-97FA-26B2033E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378-5B20-4199-B028-FBBE5B71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8E5-26E7-4185-9FE9-52E133EF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7F1-E140-4D34-9C4E-3F4EA763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624-6A4E-4966-AFC3-E0738ED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BB9-CCA9-4EA4-A44B-E95A185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025-4F12-4DB7-81F7-8CCDA22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31F-E25A-49D0-A80F-6400662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2D1-ED08-4869-A20A-8B7D19FF6A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0400" y="228600"/>
            <a:ext cx="2187720" cy="1981080"/>
            <a:chOff x="3200400" y="228600"/>
            <a:chExt cx="2187720" cy="19810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200400" y="228600"/>
              <a:ext cx="21877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3200400" y="228600"/>
              <a:ext cx="218772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发现号航天飞机发射推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北京时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1:39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美国东部时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:39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美国宇航局宣布推迟发现号航天飞机发射，原因是发现航天飞机的燃料传感器存在故障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1956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1316_" descr=""/>
          <p:cNvPicPr/>
          <p:nvPr/>
        </p:nvPicPr>
        <p:blipFill>
          <a:blip r:embed="rId1"/>
          <a:stretch/>
        </p:blipFill>
        <p:spPr>
          <a:xfrm>
            <a:off x="1455840" y="1981080"/>
            <a:ext cx="311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2:30Z</dcterms:created>
  <dc:creator>liu</dc:creator>
  <dc:description/>
  <dc:language>en-US</dc:language>
  <cp:lastModifiedBy>jc</cp:lastModifiedBy>
  <dcterms:modified xsi:type="dcterms:W3CDTF">2005-11-15T11:42:23Z</dcterms:modified>
  <cp:revision>2</cp:revision>
  <dc:subject/>
  <dc:title>PowerPoint 演示文稿</dc:title>
</cp:coreProperties>
</file>