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376-E1F2-49F4-98EA-6C764619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A25-AEBE-491F-9E65-4675C4B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87F-F265-40D7-93D3-2DB9AE67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8A0-C806-4320-809F-3E10D89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4B27-36D4-4E0C-94CF-2877C05E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58C-A84F-4C69-BB9C-8758B8B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B0DA-8496-46E2-ABFA-184E8CE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3D1E-FDB4-4894-B451-D0211C5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1A78-A286-41C3-BDB3-02FA746D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5D64-CB59-4492-A5C6-C17D0539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9026-CF02-446B-B514-5D831A9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020-0784-4346-BFBA-FB123EE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A695-0869-4520-A892-A1B16E5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A206-6198-4D3F-B15A-5993B24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427B-9C13-4304-8990-A70630A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9674-113F-497B-8D83-179E14B0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CFDB-E761-4B1A-B2DD-F08C2098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E66-0455-481C-B039-8F5DE43E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4DC-8AAD-4547-85B8-550ECEF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76F-5774-4856-8E3B-8938EF8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040-5B8A-4C70-88DF-E07C73F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AB4-4FF6-4A57-843E-001B80E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B2E-9376-49E5-AEE2-98F9B8A5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16E-C7E1-4425-86E7-77C5E5F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290-18AF-49B7-89C7-21761C5303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6D00-4EC4-413F-A0D5-7635676958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禁放烟花爆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幼儿看图了解禁放烟花爆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84280"/>
            <a:ext cx="8637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333399"/>
                </a:solidFill>
                <a:latin typeface="Tahoma"/>
                <a:ea typeface="黑体"/>
              </a:rPr>
              <a:t>禁放烟花爆竹</a:t>
            </a:r>
            <a:endParaRPr b="0" lang="en-US" sz="5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新年快到了，新的烟花爆竹禁放区宣布后，为了让孩子们更多地了解禁放内容，街道办事处将数十幅违法燃放烟花爆竹的漫画送到幼儿园，通过看图说话，孩子们了解了违法燃放的危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2600" y="2170080"/>
            <a:ext cx="358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3:25:20Z</dcterms:created>
  <dc:creator>liu</dc:creator>
  <dc:description/>
  <dc:language>en-US</dc:language>
  <cp:lastModifiedBy>walkinnet</cp:lastModifiedBy>
  <dcterms:modified xsi:type="dcterms:W3CDTF">2011-03-10T06:02:50Z</dcterms:modified>
  <cp:revision>6</cp:revision>
  <dc:subject/>
  <dc:title>禁放烟花爆竹</dc:title>
</cp:coreProperties>
</file>