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5D7-BD81-44BC-AB7A-BA31E219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125-39EC-489C-A793-C20B1979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DE1-AC7B-481E-8046-51C2FD98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EFD-C583-44B9-A4C8-4799C986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9B1-4861-4267-ABBA-A539275F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F56-07B0-43EB-8467-503F7D64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61D-68A9-4DB8-B110-A7FD3EC8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5DD-892A-4417-BE06-708FA966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722-5E71-4911-9672-A8C17A42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8C0-D486-4C8F-A8FC-8151BC39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6DF-56CF-4F72-85EA-BD547A48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55B-4B75-4164-9BC0-6279B5AA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F382-91D7-4996-9732-C410371789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禁放烟花爆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年快到了，新的烟花爆竹禁放区宣布后，为了让孩子们更多地了解禁放内容，街道办事处将数十幅违法燃放烟花爆竹的漫画送到幼儿园，通过看图说话，孩子们了解了违法燃放的危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新年到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熊猫细胞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熊猫是世界上现存最古老，也是最频危的物种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成都大熊猫繁育研究基地已经基本建成大熊猫细胞库，可为大熊猫克隆工程提供技术和资源支持。对大熊猫资源保护具有拯救性的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禁放烟花爆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幼儿看图了解禁放烟花爆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03:25:20Z</dcterms:created>
  <dc:creator>liu</dc:creator>
  <dc:description/>
  <dc:language>en-US</dc:language>
  <cp:lastModifiedBy>gao_samsung</cp:lastModifiedBy>
  <dcterms:modified xsi:type="dcterms:W3CDTF">2005-07-02T12:44:16Z</dcterms:modified>
  <cp:revision>5</cp:revision>
  <dc:subject/>
  <dc:title>禁放烟花爆竹</dc:title>
</cp:coreProperties>
</file>