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8A3-827A-4DCC-9D5C-FFB38F1F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2E6-494A-40CF-A5C9-9388F857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AA0-9BC7-42F9-ACCD-828AAA09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986-E156-4D16-80B3-0E95FB59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7B0-C285-4E85-A053-37D7E3B0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138-22EC-49DB-B31E-7E34A493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DAA-2D08-46BD-B0D4-7CB82F6C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EBE-AE52-4D5C-AC90-7ECCA7CC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111-5A37-491E-8DF8-5D21D7B4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911-6159-414E-87B4-2C5EE83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301-660F-40E2-A9E5-309042C3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53A-758C-4448-9B93-27F33575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B80D-97D7-44A0-8F21-C78E0A80DE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家电价格还会降吗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关注移动存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160" y="30481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是不是感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44M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软盘太小，用着越来越不方便了？让我们一起来关注移动存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厂长找到了贤内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厂长用上了企业管理软件。这套软件独创地采用“批货物”管理模式，可以对同一种产品的每一批货物进行管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03:24:45Z</dcterms:created>
  <dc:creator>Zhang</dc:creator>
  <dc:description/>
  <dc:language>en-US</dc:language>
  <cp:lastModifiedBy>jc</cp:lastModifiedBy>
  <dcterms:modified xsi:type="dcterms:W3CDTF">2006-03-06T07:30:31Z</dcterms:modified>
  <cp:revision>5</cp:revision>
  <dc:subject/>
  <dc:title>关注移动存储</dc:title>
</cp:coreProperties>
</file>