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767-6EBC-45E4-AACF-F63E79DF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20C-7FC1-49D1-A769-1CC21215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F90-D446-4ACF-B93B-56919BAB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CA0-0590-410E-A93A-D264D642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88E-18E1-49B7-A269-A132B9B5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AEE-4AE0-4493-AFBF-7533DB54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35F-9800-4C30-BAAC-EE61A641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A73-60C0-422F-BF13-39FCAC73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424-7384-4D33-A16B-006ADC0A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E43-E3FD-4A25-AC52-7591B7A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836-FCF0-4C04-A5ED-AD06619A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E9E-E4AC-4A51-90E8-3D9C23E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7911-CB20-4D0A-AA99-E64C4A135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关注移动存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30481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是不是感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44M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软盘太小，用着越来越不方便了？让我们一起来关注移动存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厂长找到了贤内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17484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厂长用上了企业管理软件。这套软件独创地采用“批货物”管理模式，可以对同一种产品的每一批货物进行管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03:24:45Z</dcterms:created>
  <dc:creator>Zhang</dc:creator>
  <dc:description/>
  <dc:language>en-US</dc:language>
  <cp:lastModifiedBy>GAOBO_TOSHIBA</cp:lastModifiedBy>
  <dcterms:modified xsi:type="dcterms:W3CDTF">2002-02-19T01:08:42Z</dcterms:modified>
  <cp:revision>2</cp:revision>
  <dc:subject/>
  <dc:title>关注移动存储</dc:title>
</cp:coreProperties>
</file>