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312-56B4-44C3-8378-BB802AB7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EDF-58BD-40DB-95FA-A939A083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CDC-09FE-48DB-8FD1-AEA88BC4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B0F-EEDE-4FD8-AD3B-83AD9332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D8B-FB83-45EA-A649-058B0B31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DDF-16E7-40A2-B7C2-A5B77FEF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F33-F669-48CE-93E9-00DF36FF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D56-9160-4A39-B992-7207642F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081-4972-4117-99CA-DF78D65E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9F0-F566-4134-B536-C46D912D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481-16C0-4F8E-8625-E2FA974C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C50-F669-47CF-BFE8-4769164F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2E13-8776-4C3B-894F-F11FCEDC24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  <a:ea typeface="黑体"/>
              </a:rPr>
              <a:t>燃放爆竹“禁改限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a0000"/>
                </a:solidFill>
                <a:latin typeface="Times New Roman"/>
                <a:ea typeface="仿宋_GB2312"/>
              </a:rPr>
              <a:t>北京市方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燃放爆竹“禁改限”时间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，北京市对《禁止燃放烟花爆竹的规定》进行修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，就“北京市烟花爆竹安全管理条例”征求市民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，对条例有如下修改：五环路内为禁放区，春节等庆典活动须经市政府批准才能燃放；五环路外燃放无限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下旬， 修改后的“北京市烟花爆竹安全管理条例”提交市人大审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新年到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5800" y="2119320"/>
            <a:ext cx="3809880" cy="38368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07:32:56Z</dcterms:created>
  <dc:creator>liu</dc:creator>
  <dc:description/>
  <dc:language>en-US</dc:language>
  <cp:lastModifiedBy>liu</cp:lastModifiedBy>
  <dcterms:modified xsi:type="dcterms:W3CDTF">2005-07-08T07:43:07Z</dcterms:modified>
  <cp:revision>2</cp:revision>
  <dc:subject/>
  <dc:title>燃放爆竹“禁改限”时间表</dc:title>
</cp:coreProperties>
</file>