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AAC-8AA8-44EF-8F8F-47E9B109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3C0-CD58-4CD6-A711-20BDC4AC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6C4-25FC-4022-96E6-BAE2599F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350-6F40-4EB0-8223-92C5A54B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8E2-6DEF-4967-837B-86767C57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843-093D-45C6-B8F1-AB3DBCE2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BCF-5127-411E-8532-4452CAC1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44E-313D-4F57-A8A4-A8E3FE38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B3A-22BF-4E57-9741-2E922855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119-AE4A-4A47-9328-FD485E6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6D6-119F-4F8D-BE14-83BC6A8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475-835A-4A56-96BE-19890FD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984C-8659-47D1-958D-A572B8FA5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燃放爆竹“禁改限”时间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北京市对《禁止燃放烟花爆竹的规定》进行修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就“北京市烟花爆竹安全管理条例”征求市民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对条例有如下修改：五环路内为禁放区，春节等庆典活动须经市政府批准才能燃放；五环路外燃放无限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下旬， 修改后的“北京市烟花爆竹安全管理条例”提交市人大审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新年到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2119320"/>
            <a:ext cx="380988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燃放爆竹“禁改限”方案提交市人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07:32:56Z</dcterms:created>
  <dc:creator>liu</dc:creator>
  <dc:description/>
  <dc:language>en-US</dc:language>
  <cp:lastModifiedBy>liu</cp:lastModifiedBy>
  <dcterms:modified xsi:type="dcterms:W3CDTF">2005-07-08T07:34:09Z</dcterms:modified>
  <cp:revision>2</cp:revision>
  <dc:subject/>
  <dc:title>燃放爆竹“禁改限”时间表</dc:title>
</cp:coreProperties>
</file>