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6EE-0679-4C6E-9969-50349FE4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272-5904-4991-B656-9B89050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EAD-3A70-493C-99E8-DEDCCFB5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D8A-DED0-422E-BC45-5BF9E62C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FECF-3929-4B93-B69D-98314731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E55-C75E-4F5C-A9CC-411856E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8EE-1C9E-4611-9314-4CFF45F4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88E5-372C-4BE9-BB74-77374CF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548E-C340-461B-8E3D-FFB6C03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597-F63B-40DF-91E9-A150F04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831-0A6F-4F6B-A545-66D9445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74C-6E9B-47F5-BA13-9512835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534-2588-4190-9361-2B7A6A2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BBA5-3DE1-44CB-AF23-73254D1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ACB-BC7B-47D0-8328-A5B05F07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D8D-F947-4533-9E4D-D93AA4A2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0975-56FE-4F7B-806F-E5E955F9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643-DF49-4606-8AB6-583C79E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22C-CBC1-4E07-B441-1B0D538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7E3-EFBC-4842-B76C-A804640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372-18F0-421E-95D5-2988EB0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94A-AE47-4137-8C9F-4B44A4F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99C-922F-4E1E-9DE2-66B844A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BC7-2E0C-46DF-AF49-D980D78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B74-1C28-46D2-821D-44BCD14B2BC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0720-278D-40E3-96B8-AF8B741DE46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春节商城淘宝攻略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大众商场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春节促销活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58040" y="151920"/>
            <a:ext cx="1923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打折商品清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561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寸纯平电视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最新款照相手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格兰仕微波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海尔豪华款电冰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海尔整体厨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美的空调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3:07:44Z</dcterms:created>
  <dc:creator>Zhang</dc:creator>
  <dc:description/>
  <dc:language>en-US</dc:language>
  <cp:lastModifiedBy>聂钰桢</cp:lastModifiedBy>
  <dcterms:modified xsi:type="dcterms:W3CDTF">2008-11-13T07:03:33Z</dcterms:modified>
  <cp:revision>7</cp:revision>
  <dc:subject/>
  <dc:title>有备无患  万无一失</dc:title>
</cp:coreProperties>
</file>