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13B-8807-4FC5-A571-6D751D48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F2B-2E40-4B3E-A146-D6ECE3A3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C03-5D8B-4291-8D61-91538A94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281-D8AA-4EAE-B55C-FD7739C0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E38-99FE-46E9-A787-DD569B0E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B5A-42F0-4702-91B3-C53FB8FA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3CD-2092-4A85-A035-BB735E73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8EB-F4FA-4584-8662-9DDE063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82F-2F71-49D0-8AB7-DCBB290C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DB8-CDBE-426B-A47F-B0569309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85B-1140-4EF9-8083-7BE1930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E6A-5D97-4AA4-8C85-F246C219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F5DA-E2DD-4BA3-9B79-D0630C947C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众商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春节促销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打折商品清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寸纯平电视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新款照相手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格兰仕微波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海尔豪华款电冰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海尔整体厨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的空调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3:07:44Z</dcterms:created>
  <dc:creator>Zhang</dc:creator>
  <dc:description/>
  <dc:language>en-US</dc:language>
  <cp:lastModifiedBy>jk</cp:lastModifiedBy>
  <dcterms:modified xsi:type="dcterms:W3CDTF">2008-08-02T08:53:17Z</dcterms:modified>
  <cp:revision>2</cp:revision>
  <dc:subject/>
  <dc:title>有备无患  万无一失</dc:title>
</cp:coreProperties>
</file>