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27A6-E0C8-4954-B206-5D1F3643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5FD0-F15D-47CF-9CF1-062DF8E9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781-7B19-4BBF-9AAC-620959EE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AF5F-7D3B-472E-8FD9-E82B3B40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65B5-7BB0-4C2D-A60B-5C9A42B9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032C-8F65-4926-A7DF-425F4123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8CEE-917D-4187-9CD5-28246939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88F2-213D-4E70-9E02-C4DE1C0A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0D52-D045-4B14-8A74-31AE50D8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3534-B871-4BA5-B178-9370AD7B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6FC4-81D9-4257-88D8-5D187515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84F-F06C-41E5-88BA-9395EE31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F778-CF84-4025-8BBC-91922B2E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685D-6863-4182-A952-CD435E43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DB1C-4B5B-4CA7-9E38-0E14BE48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8F39-DD8F-4055-AE68-1DD803D4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5D72-E219-454E-A1CC-DB6F990E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3093-C1C3-4FE1-B6A7-ADC371C9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78F4-952B-4B21-869D-87D5F2B0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1BF-A6A6-4C9D-9D5C-0C80D803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38C4-10BA-497A-8CE8-785D52B7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63B2-F3D9-4970-9CA4-C785A3C5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ADC8-775A-443B-946B-6ABE3686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BBF4-862F-4912-9401-10053E5B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D05E-26B3-4EEC-8B47-DAF577948B0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7050-CBB8-49E1-BA70-C5E995A993F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3024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  <a:ea typeface="黑体"/>
              </a:rPr>
              <a:t>百姓批发市场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ahoma"/>
              </a:rPr>
              <a:t>销售统计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月份产品 销量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200480" y="2017800"/>
          <a:ext cx="1735200" cy="198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0480" y="2017800"/>
                    <a:ext cx="17352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鞋帽产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床上用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食品烟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主食副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五金电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市场统计目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月份统计数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和去年同时期销量对比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成本核算统计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月份销售计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08:06:53Z</dcterms:created>
  <dc:creator>新思路</dc:creator>
  <dc:description/>
  <dc:language>en-US</dc:language>
  <cp:lastModifiedBy>聂钰桢</cp:lastModifiedBy>
  <dcterms:modified xsi:type="dcterms:W3CDTF">2009-09-15T08:25:40Z</dcterms:modified>
  <cp:revision>5</cp:revision>
  <dc:subject/>
  <dc:title>百姓批发市场销量统计</dc:title>
</cp:coreProperties>
</file>