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037-F93A-4236-AB29-75243BB3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1A9-275D-4D3D-8A28-884679F2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285-2E72-4BA4-8594-9E591CEB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C37-A5DC-46F4-AFE4-24CDDDBF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D41-3D1B-4D3E-BECA-01C1FDE8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1D5-AD04-43F1-91A1-DC4B6900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128-6BC1-4C11-B566-6D6E8EB3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F4A-61FA-49E4-B907-258B8C3F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FA7-7DC2-4340-B7C1-80C7DF0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BE6-1431-4183-A7D6-72F29126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809-104E-428A-8408-C727D8F4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2F2-8A89-427D-82E6-31796C86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3C5-4BF8-47CC-B2E2-B1BEF4CDB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月份产品 销量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89120" y="1981080"/>
          <a:ext cx="36018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1981080"/>
                    <a:ext cx="360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鞋帽产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床上用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食品烟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食副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五金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市场统计目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份统计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去年同时期销量对比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本核算统计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份销售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百姓批发市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8:06:53Z</dcterms:created>
  <dc:creator>新思路</dc:creator>
  <dc:description/>
  <dc:language>en-US</dc:language>
  <cp:lastModifiedBy>jk</cp:lastModifiedBy>
  <dcterms:modified xsi:type="dcterms:W3CDTF">2008-08-02T09:01:14Z</dcterms:modified>
  <cp:revision>2</cp:revision>
  <dc:subject/>
  <dc:title>百姓批发市场销量统计</dc:title>
</cp:coreProperties>
</file>